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EFD-F674-4954-87DF-379B5A78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300-CCD6-4642-86A5-CC94F8A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2CA-55EF-47D9-A381-3C3BFB8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C2C-0589-4FDC-8DED-0A9D9CD6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4FE2-A33A-4DFD-B981-100EF7E3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462-D3E0-48F9-BEA3-C61F3C4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450B-9A65-42FF-B562-AA80948E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B75E-0257-46D6-BC2D-DD1CC185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109-36A0-4830-9D97-48356F9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0EC2-E5CA-4DB4-8330-EEC6B91C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7B26-098E-4498-B1A4-1ABEFA48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C20-EB56-4603-926F-96FF48B1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68DC-FB89-450B-98A2-DECC0EE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29A2-F4B5-490A-A7EC-FAA6937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0A6-C0BD-4F14-8927-62B87A80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9530-8A16-4053-8CA8-E5583F93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B35F-590E-41E5-B677-91C2666A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18C2-FB2E-4B07-AFFF-83056FCE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4E39-4925-4367-BAA6-6C55F62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52B5-BC14-43C2-AEC8-85297AC0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BC43-FC40-4CF9-8A66-0A18D712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7A10-5DF8-4B37-A80E-20A260D6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9C6-026E-4575-BE4E-4BCB9AC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F178-BDC0-456A-891D-77116C78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483A-CC34-4F5F-9DDB-86EA63F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7AE1-C43F-4482-B116-6EFE6E1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8AF1-96ED-4A99-A6A0-0962F6F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2360-0020-4FA4-8276-C57BA26B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1214-06D3-4FB2-8FA5-10C967C3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8E2D-7476-4C26-87F9-30C09410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E8B2-88ED-4CDB-B3F5-652ED827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9F96-8CE3-4166-AEB9-51BFE690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8189-54C7-4AD5-9305-84FEECF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708-4590-4770-A60B-8B7A55DB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EA93-61C7-4372-8CF3-F1B91588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04EF-43BF-40BE-90E4-2223B07D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5987-82B8-4D7F-975D-60EF5A96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F92D-D0A2-4A4A-96A3-1C73C0D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8EDA-8666-4EBF-AA0D-2C213DC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F1AE-1D4C-4B58-82C9-CC8B220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934D-E672-4D4D-912A-E30EFFD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DA07-9D89-45CF-8FA6-1E00A386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A528F-4312-46A6-AB17-16088A4E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8C02-D9C3-42AA-9089-F83C4F22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DDF-46F5-4E74-97C1-D4C4539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F5A2-2C50-4981-9B9E-5E409B3D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09E7-EF0F-4C0B-9ADE-884AB1F7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24F3-EB8E-47E1-848E-CC69FD08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E7BA-28A1-44DE-88EA-E84FBE5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ED9C-B136-4C8C-BBF7-461590C2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73CD-618E-4D63-ABFF-810727F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B9C3-6AF3-4B1F-88B9-7F4A71C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2178-82C5-4C38-9187-C96A999C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C814-AAA2-4AC3-BBF4-4FF2142C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2C23-7FC6-4507-BAAF-789FE66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7C6-5F3D-4D2C-8D33-86009804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8AD3-B934-47A7-AD48-1B5B6DAA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4A0E-73C4-404F-9B75-C2EE53BE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040C-2BB3-4CB8-AAED-BBA324C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FE9B-BB08-4182-AB86-F983F46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D0178-5AEE-4482-A7B9-A6601E7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55A9-D83C-4354-BBF7-05CFF071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AE92-4E53-41FD-A664-223A5E38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33A4-BA96-4327-8093-76073C5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A3D4-09C4-4795-9741-C7E6378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98861-04F5-4B6A-90C5-C7E4E6E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DCE-36ED-47CD-9AF6-DF33F0E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1E139-A349-47DA-9E10-5A57039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AC2A-B30A-4FC4-BA5E-882241F3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42E72-D2CE-44C0-8ECF-1016AA38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E7723-94B5-4311-88F7-AADFCE58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DFCA-9498-4122-BFF6-6200AEA9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8D08-8D23-481B-9ECE-684B9F68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18AB-160E-4B6D-8A25-F218177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EB146-1EC8-4E4C-A41A-A25126EB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4544-6BED-4623-A826-61A3EB4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A77D8-DB66-4D6C-9ECB-F4FFE44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D12-11D9-4A46-B0CB-DD380E6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6B5AC-0F80-40A8-ABF4-D69C383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23AD-B5F4-4BD4-AF5C-AF551F8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E5EF-29F6-4D47-A226-AF08BB3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BC0AB-9D80-4041-8F99-72BA6054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4B97-9F21-47BC-B81C-9DBE39A4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DE9-1052-43A8-9261-077A099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1661-3BD6-4BBB-9F37-4467B7CF4B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30A5-4CD4-40BA-A2ED-7B2D17437A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FE8D-BC16-4BD4-AA2D-2C1CD83CAA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1C7-60A9-4C94-993D-A60B37A74E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FCB-9175-4102-B752-DF18E0461E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4BE-7400-428A-89E4-85F98DEB53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32F4-1D87-4ADE-ABD3-4115774893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0" descr="01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4026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11617"/>
                </a:solidFill>
                <a:latin typeface="Arial"/>
              </a:rPr>
              <a:t>Технологии креативного мышления</a:t>
            </a:r>
            <a:br>
              <a:rPr sz="3600"/>
            </a:br>
            <a:br>
              <a:rPr sz="4800"/>
            </a:br>
            <a:r>
              <a:rPr b="1" lang="ru-RU" sz="4800" spc="-1" strike="noStrike">
                <a:solidFill>
                  <a:srgbClr val="425519"/>
                </a:solidFill>
                <a:latin typeface="Arial"/>
              </a:rPr>
              <a:t> «Шесть шляп, или Наследство старого Мастера»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4267080" y="50292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лавное:</a:t>
            </a:r>
            <a:r>
              <a:rPr b="1" lang="ru-RU" sz="4000" spc="-1" strike="noStrike">
                <a:solidFill>
                  <a:srgbClr val="425519"/>
                </a:solidFill>
                <a:latin typeface="Arial"/>
              </a:rPr>
              <a:t> метод даёт возможность определять правила игры, а изучение правил является одной из самых перспективных форм накопления знаний в детские го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440" y="1447560"/>
            <a:ext cx="824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32d47"/>
                </a:solidFill>
                <a:latin typeface="Times New Roman"/>
              </a:rPr>
              <a:t>В методе шести шляп </a:t>
            </a: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мышление делится на шесть различных режимов</a:t>
            </a:r>
            <a:r>
              <a:rPr b="0" lang="ru-RU" sz="4400" spc="-1" strike="noStrike">
                <a:solidFill>
                  <a:srgbClr val="232d47"/>
                </a:solidFill>
                <a:latin typeface="Times New Roman"/>
              </a:rPr>
              <a:t>, каждый из которых представлен шляпой своего цвет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Arial"/>
              </a:rPr>
              <a:t>Бел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50" name="Picture 4" descr="whitehat"/>
          <p:cNvPicPr/>
          <p:nvPr/>
        </p:nvPicPr>
        <p:blipFill>
          <a:blip r:embed="rId1"/>
          <a:stretch/>
        </p:blipFill>
        <p:spPr>
          <a:xfrm>
            <a:off x="1295280" y="1828800"/>
            <a:ext cx="2025720" cy="2971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3886200" y="1447920"/>
            <a:ext cx="480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нформация. Вопросы. Какой мы обладаем информацией? Какая нам нужна информаци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Arial"/>
              </a:rPr>
              <a:t>Крас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Эмоции. Интуиция, чувства и предчувствия. Не требуется давать обоснование чувствам. Какие у меня по этому поводу возникают чувств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redhat"/>
          <p:cNvPicPr/>
          <p:nvPr/>
        </p:nvPicPr>
        <p:blipFill>
          <a:blip r:embed="rId1"/>
          <a:stretch/>
        </p:blipFill>
        <p:spPr>
          <a:xfrm>
            <a:off x="533520" y="14479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Arial"/>
              </a:rPr>
              <a:t>Чёр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blackhat"/>
          <p:cNvPicPr/>
          <p:nvPr/>
        </p:nvPicPr>
        <p:blipFill>
          <a:blip r:embed="rId2"/>
          <a:stretch/>
        </p:blipFill>
        <p:spPr>
          <a:xfrm>
            <a:off x="1490760" y="29718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3733920" y="19810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торожность. Суждение. Оценка. Правда ли это? Сработает ли это? В чем недостатки? Что здесь неправиль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Жёлт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657600" y="17521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425519"/>
                </a:solidFill>
                <a:latin typeface="Times New Roman"/>
              </a:rPr>
              <a:t>Преимущества. Почему это стоит сделать? Каковы преимущества? Почему это можно сделать? Почему это сработает?</a:t>
            </a:r>
            <a:r>
              <a:rPr b="0" lang="ru-RU" sz="3600" spc="-1" strike="noStrike">
                <a:solidFill>
                  <a:srgbClr val="42551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yellowhat"/>
          <p:cNvPicPr/>
          <p:nvPr/>
        </p:nvPicPr>
        <p:blipFill>
          <a:blip r:embed="rId1"/>
          <a:stretch/>
        </p:blipFill>
        <p:spPr>
          <a:xfrm>
            <a:off x="1023840" y="2514600"/>
            <a:ext cx="2252880" cy="26668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3809880" y="351648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25519"/>
                </a:solidFill>
                <a:latin typeface="Arial"/>
              </a:rPr>
              <a:t>Зелё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Times New Roman"/>
              </a:rPr>
              <a:t>Творчество. Различные идеи. Новые идеи. Предложения. Каковы некоторые из возможных решений и действий? Каковы альтернатив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7" descr="greenhat"/>
          <p:cNvPicPr/>
          <p:nvPr/>
        </p:nvPicPr>
        <p:blipFill>
          <a:blip r:embed="rId1"/>
          <a:stretch/>
        </p:blipFill>
        <p:spPr>
          <a:xfrm>
            <a:off x="1197000" y="2286000"/>
            <a:ext cx="2900160" cy="29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Arial"/>
              </a:rPr>
              <a:t>Синя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76720" y="1447560"/>
            <a:ext cx="54100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Организация мышления. Мышление о мышлении. Чего мы достигли? Что нужно сделать дальш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5" descr="bluehat"/>
          <p:cNvPicPr/>
          <p:nvPr/>
        </p:nvPicPr>
        <p:blipFill>
          <a:blip r:embed="rId1"/>
          <a:stretch/>
        </p:blipFill>
        <p:spPr>
          <a:xfrm>
            <a:off x="804960" y="2362320"/>
            <a:ext cx="254772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66520" y="4647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Технология </a:t>
            </a:r>
            <a:r>
              <a:rPr b="1" lang="en-US" sz="2500" spc="-1" strike="noStrike">
                <a:solidFill>
                  <a:srgbClr val="232d47"/>
                </a:solidFill>
                <a:latin typeface="Book Antiqua"/>
              </a:rPr>
              <a:t>«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Шесть шляп мышления</a:t>
            </a:r>
            <a:r>
              <a:rPr b="1" lang="en-US" sz="2500" spc="-1" strike="noStrike">
                <a:solidFill>
                  <a:srgbClr val="232d47"/>
                </a:solidFill>
                <a:latin typeface="Book Antiqua"/>
              </a:rPr>
              <a:t>»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 Эдварда де Боно позволяет развивать у взрослых и детей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00200" y="3048120"/>
            <a:ext cx="7162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твор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крити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толер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1"/>
          <p:cNvGrpSpPr/>
          <p:nvPr/>
        </p:nvGrpSpPr>
        <p:grpSpPr>
          <a:xfrm>
            <a:off x="304920" y="380880"/>
            <a:ext cx="8578800" cy="1066680"/>
            <a:chOff x="304920" y="380880"/>
            <a:chExt cx="8578800" cy="1066680"/>
          </a:xfrm>
        </p:grpSpPr>
        <p:pic>
          <p:nvPicPr>
            <p:cNvPr id="373" name="Picture 5" descr="redhat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6" descr="whitehat"/>
            <p:cNvPicPr/>
            <p:nvPr/>
          </p:nvPicPr>
          <p:blipFill>
            <a:blip r:embed="rId2"/>
            <a:stretch/>
          </p:blipFill>
          <p:spPr>
            <a:xfrm>
              <a:off x="1730520" y="380880"/>
              <a:ext cx="1143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7" descr="blackhat"/>
            <p:cNvPicPr/>
            <p:nvPr/>
          </p:nvPicPr>
          <p:blipFill>
            <a:blip r:embed="rId3"/>
            <a:stretch/>
          </p:blipFill>
          <p:spPr>
            <a:xfrm>
              <a:off x="3156120" y="38088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8" descr="yellowhat"/>
            <p:cNvPicPr/>
            <p:nvPr/>
          </p:nvPicPr>
          <p:blipFill>
            <a:blip r:embed="rId4"/>
            <a:stretch/>
          </p:blipFill>
          <p:spPr>
            <a:xfrm>
              <a:off x="4583160" y="380880"/>
              <a:ext cx="11430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9" descr="greenhat"/>
            <p:cNvPicPr/>
            <p:nvPr/>
          </p:nvPicPr>
          <p:blipFill>
            <a:blip r:embed="rId5"/>
            <a:stretch/>
          </p:blipFill>
          <p:spPr>
            <a:xfrm>
              <a:off x="6008760" y="380880"/>
              <a:ext cx="12952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0" descr="bluehat"/>
            <p:cNvPicPr/>
            <p:nvPr/>
          </p:nvPicPr>
          <p:blipFill>
            <a:blip r:embed="rId6"/>
            <a:stretch/>
          </p:blipFill>
          <p:spPr>
            <a:xfrm>
              <a:off x="7588440" y="380880"/>
              <a:ext cx="129528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723960" y="457200"/>
          <a:ext cx="78865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57200"/>
                    <a:ext cx="7886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Цель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здать представление о технологии Эдварда де Бон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Шесть шляп мышления»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18960" y="1523880"/>
            <a:ext cx="3429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Задача минимум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овладеть приёмами представленной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повысить уровень качества методики построения уро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научить учащихся эффективно мыслить, решать и действ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2880" y="1523880"/>
            <a:ext cx="3981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Задача максимум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научиться эффективно управлять своим мышлением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научиться преодолевать беспорядочность, стихийность течения мыслей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в нужных ситуациях уметь отделить логику от эмоций, желаемое от действительного, фантазии от фактов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новные принципы его развития</a:t>
            </a:r>
            <a:br>
              <a:rPr sz="4000"/>
            </a:b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25" name="Picture 7" descr="Edward_de_Bono"/>
          <p:cNvPicPr/>
          <p:nvPr/>
        </p:nvPicPr>
        <p:blipFill>
          <a:blip r:embed="rId1"/>
          <a:stretch/>
        </p:blipFill>
        <p:spPr>
          <a:xfrm>
            <a:off x="1228680" y="2057400"/>
            <a:ext cx="2776680" cy="40384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160" y="1523880"/>
            <a:ext cx="49719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выделение необходимых и достаточных условий решения за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отказу от прежнего опыта решения аналогичных зада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видению различных аспектов одного явлен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выделению и осознанию основного противоречия в пробле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«объединению противоположностей» и использование данного ресурса для решения зада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то такое «Шесть шляп мышления»?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28" name="Picture 6" descr="popurry_10323big"/>
          <p:cNvPicPr/>
          <p:nvPr/>
        </p:nvPicPr>
        <p:blipFill>
          <a:blip r:embed="rId1"/>
          <a:stretch/>
        </p:blipFill>
        <p:spPr>
          <a:xfrm>
            <a:off x="1123920" y="1752480"/>
            <a:ext cx="2838600" cy="38577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4267080" y="182880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Это - 6 различных режимов, рамками которых человек может очертить процесс своего мышления в тот или иной момент, исходя из обстоятельств любой конкретной ситуации в быту или бизнесе, чтобы направить её развитие в лучшую сторон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2d47"/>
                </a:solidFill>
                <a:latin typeface="Arial"/>
              </a:rPr>
              <a:t>Концепция «Шести шляп»</a:t>
            </a: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Это - простой, но эффективный метод, позволяющий стать лучшим мыслителе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Боно разделяет мышление на шесть отличных друг от друга режимов, обозначенных шляпами разного цвета. «Надевание» шляпы фокусирует мышление, «смена» шляпы изменяет его направлени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2203"/>
                </a:solidFill>
                <a:latin typeface="Arial"/>
              </a:rPr>
              <a:t>Когда разные части мыслительного процесса четко определены, мышление может стать более сосредоточенным и продуктивным.</a:t>
            </a: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Используя в качестве примеров ситуации из реальной жизни, доктор де Боно создает сценарии, которые показывают, как эффективнее использовать шляпы мышл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Концепции Эдварда де Боно применяются крупнейшими корпорациями мира. «Шесть шляп мышления» ясно иллюстрирует, почему они сочли важным применить эти идеи в своих техниках менеджмен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d47"/>
                </a:solidFill>
                <a:latin typeface="Arial"/>
              </a:rPr>
              <a:t>Шесть шляп – метод тренировки группового мышления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Особенности группового мыш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Почему решение сложных проблем зачастую проще осуществлять индивидуально, а не в команде. Что мешает максимально эффективно использовать потенциал всех участников коман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Принципы параллельного мыш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улучшить коммуникацию в коман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Концепция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ие существуют типы мышления. Почему необходимо использовать все типы. Как структурировать и организовать групповое мыш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Использование последовательностей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овы эффективные последовательности типов мышления. Как пользоваться инструментами группового мыш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Индивидуальное использование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быстро найти эффективное решение, взглянув на ситуацию "под другим углом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Системное использование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управлять групповым мышл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Arial"/>
              </a:rPr>
              <a:t>Почему «Шесть шляп»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-первых</a:t>
            </a:r>
            <a:r>
              <a:rPr b="0" lang="ru-RU" sz="2800" spc="-1" strike="noStrike">
                <a:solidFill>
                  <a:srgbClr val="713204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 каждой из шести шляп соответствует свой собственный, индивидуальный цвет, делающий её легко различимой среди всех остальных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этому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 меняя шляпу, мы «дирижируем оркестром своих мыслей», придаём им нужное направл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redhat"/>
          <p:cNvPicPr/>
          <p:nvPr/>
        </p:nvPicPr>
        <p:blipFill>
          <a:blip r:embed="rId1"/>
          <a:stretch/>
        </p:blipFill>
        <p:spPr>
          <a:xfrm>
            <a:off x="533520" y="1447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whitehat"/>
          <p:cNvPicPr/>
          <p:nvPr/>
        </p:nvPicPr>
        <p:blipFill>
          <a:blip r:embed="rId2"/>
          <a:stretch/>
        </p:blipFill>
        <p:spPr>
          <a:xfrm>
            <a:off x="533520" y="2438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blackhat"/>
          <p:cNvPicPr/>
          <p:nvPr/>
        </p:nvPicPr>
        <p:blipFill>
          <a:blip r:embed="rId3"/>
          <a:stretch/>
        </p:blipFill>
        <p:spPr>
          <a:xfrm>
            <a:off x="533520" y="33526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yellowhat"/>
          <p:cNvPicPr/>
          <p:nvPr/>
        </p:nvPicPr>
        <p:blipFill>
          <a:blip r:embed="rId4"/>
          <a:stretch/>
        </p:blipFill>
        <p:spPr>
          <a:xfrm>
            <a:off x="533520" y="434340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greenhat"/>
          <p:cNvPicPr/>
          <p:nvPr/>
        </p:nvPicPr>
        <p:blipFill>
          <a:blip r:embed="rId5"/>
          <a:stretch/>
        </p:blipFill>
        <p:spPr>
          <a:xfrm>
            <a:off x="1676520" y="24382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bluehat"/>
          <p:cNvPicPr/>
          <p:nvPr/>
        </p:nvPicPr>
        <p:blipFill>
          <a:blip r:embed="rId6"/>
          <a:stretch/>
        </p:blipFill>
        <p:spPr>
          <a:xfrm>
            <a:off x="1676520" y="342900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676160" y="914400"/>
            <a:ext cx="6933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-вторых</a:t>
            </a:r>
            <a:r>
              <a:rPr b="1" lang="ru-RU" sz="3600" spc="-1" strike="noStrike">
                <a:solidFill>
                  <a:srgbClr val="713204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шляпу очень легко надеть и сн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этому</a:t>
            </a: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надевание «мыслеварительной» шляпы призвано помочь человеку обрести спокойное состояние, сосредоточиться на выполнении определённых мыслительных операц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904760" y="609120"/>
            <a:ext cx="6629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-третьих,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 «Шляпы мышления» дают структуру для использования параллельного мышления и ухода от споров, отнимающих время без всякой пользы, помогают договориться с собеседником, прийти к соглас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сонова</dc:creator>
  <dc:description/>
  <dc:language>en-US</dc:language>
  <cp:lastModifiedBy>ирина</cp:lastModifiedBy>
  <dcterms:modified xsi:type="dcterms:W3CDTF">2012-11-05T16:49:0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